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D1A8-D854-42F6-BBB0-5FF67F1D4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8AB5-ADEA-49E6-956C-62DA4A95A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4D2D-43E3-4B55-8176-4D7783CF3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D540-0FF4-41F4-8B73-735535276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7CC7-0A51-4ECC-848A-42118BDF0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A3E6-9CDA-4135-884A-B9BD8D8BA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09EB-A835-4F47-B297-F3E039723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F995-B8FF-49FD-8B7F-38DB9EA62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E935-573D-4611-98B7-4F72799ED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EAA3-3CDF-4040-8162-CEBDF5DF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A0EE-2F89-488E-AD4F-6F748B6A2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ED03-E183-4056-80A9-14EAD4C0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E7401-3764-4C1E-B411-849F66053B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ily Gant and Megan Rob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bruary 4,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dolph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362320" y="1143000"/>
            <a:ext cx="41148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ndale Sans for VST"/>
              </a:rPr>
              <a:t>Germany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ndale Sans for VST"/>
              <a:ea typeface="Andale Sans for VS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stellar"/>
              </a:rPr>
              <a:t>Safety Remi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stellar"/>
              </a:rPr>
              <a:t>Please keep all hands, feet and other objects in the vehicle at all ti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stellar"/>
              </a:rPr>
              <a:t>Please enjoy the show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5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5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5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5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Genes of Germa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lors of the flag of Germany are Black-gunpowder, Red-Blood, and Yellow-the flame of the Golden g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rmany is located next to France, Poland, the Czech Republic, Belgium, Netherlands, Austria, and a couple of other countries. It is also bordering the North Sea, and the Baltic S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876920" y="1616040"/>
            <a:ext cx="3581280" cy="2152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740560" y="3938760"/>
            <a:ext cx="1852560" cy="218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oadway"/>
              </a:rPr>
              <a:t>Berl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oadway"/>
              </a:rPr>
              <a:t>Berlin is the capital of German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oadway"/>
              </a:rPr>
              <a:t>Has around 3,465,700 people in the 1994 estim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oadway"/>
              </a:rPr>
              <a:t>Every year has a love parade with techno mus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114960" y="2139840"/>
            <a:ext cx="2419560" cy="24195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791320" y="495288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tock exchange in Berlin, Germa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5486400" y="3886200"/>
          <a:ext cx="3278160" cy="218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3886200"/>
                    <a:ext cx="3278160" cy="21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orte"/>
              </a:rPr>
              <a:t>Physical Features and Relig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rte"/>
              </a:rPr>
              <a:t>Dan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rte"/>
              </a:rPr>
              <a:t>Black fo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rte"/>
              </a:rPr>
              <a:t>Alps (Bavari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rte"/>
              </a:rPr>
              <a:t>Taunus M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rte"/>
              </a:rPr>
              <a:t>Saale 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rte"/>
              </a:rPr>
              <a:t>Weser 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rte"/>
              </a:rPr>
              <a:t>Rhine 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rte"/>
              </a:rPr>
              <a:t>Elbe 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048120" y="1143000"/>
            <a:ext cx="2286000" cy="15001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352680" y="281952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anube 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38680" y="1219320"/>
            <a:ext cx="35053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ency FB"/>
              </a:rPr>
              <a:t>91=Ger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ency FB"/>
              </a:rPr>
              <a:t>2.4=Turk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ency FB"/>
              </a:rPr>
              <a:t>6.1=var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ency FB"/>
              </a:rPr>
              <a:t>38=protes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ency FB"/>
              </a:rPr>
              <a:t>34=roman catho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ency FB"/>
              </a:rPr>
              <a:t>1.7=Musl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ency FB"/>
              </a:rPr>
              <a:t>26.3=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819520" y="4114800"/>
            <a:ext cx="2781360" cy="1863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514600" y="601992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ldest church in 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adley Hand ITC"/>
              </a:rPr>
              <a:t>Fast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"/>
              </a:rPr>
              <a:t>Currency: The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"/>
              </a:rPr>
              <a:t>Sport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"/>
              </a:rPr>
              <a:t>Volley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"/>
              </a:rPr>
              <a:t>Basket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"/>
              </a:rPr>
              <a:t>Field hoc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"/>
              </a:rPr>
              <a:t>Track and field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"/>
              </a:rPr>
              <a:t>Ski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"/>
              </a:rPr>
              <a:t>Tennis and Soc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"/>
              </a:rPr>
              <a:t>Guten Tag ! (good day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876920" y="4038480"/>
            <a:ext cx="3504960" cy="20574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495680" y="1600200"/>
            <a:ext cx="4114800" cy="2286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urlz MT"/>
              </a:rPr>
              <a:t>Economy and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urlz MT"/>
              </a:rPr>
              <a:t>Germany’s economy is the third largest in the wor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urlz MT"/>
              </a:rPr>
              <a:t>They have cars that we buy in the US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urlz MT"/>
              </a:rPr>
              <a:t>Example: The Audi,BMW,Mercedes Benz, Porsche, Volksw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urlz MT"/>
              </a:rPr>
              <a:t>Because they have a lot of factories in Germany pollution is dangerous. Some beaches you can’t even go to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urlz MT"/>
              </a:rPr>
              <a:t>Language:95% is German , Turkish ,Italian, Serbo-Croatian ,Kurdis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743200" y="4419720"/>
            <a:ext cx="2600280" cy="14475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895480" y="59436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adley Hand ITC"/>
              </a:rPr>
              <a:t>A beach in 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elix Titling"/>
              </a:rPr>
              <a:t>Today in Germa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Felix Titl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elix Titling"/>
              </a:rPr>
              <a:t>They wear clothes like 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Felix Titl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elix Titling"/>
              </a:rPr>
              <a:t>They celebrate holidays like Erntedankfest, Christmas, Halloween, St. Nikolaus Day, St. Valentine's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elix Titl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elix Titling"/>
              </a:rPr>
              <a:t>They</a:t>
            </a:r>
            <a:r>
              <a:rPr b="0" lang="en-US" sz="2800" spc="-1" strike="noStrike">
                <a:solidFill>
                  <a:srgbClr val="000000"/>
                </a:solidFill>
                <a:latin typeface="Felix Titling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Felix Titling"/>
              </a:rPr>
              <a:t>eat fish and apples and onions as one of their main dishes.</a:t>
            </a:r>
            <a:r>
              <a:rPr b="0" lang="en-US" sz="2800" spc="-1" strike="noStrike">
                <a:solidFill>
                  <a:srgbClr val="000000"/>
                </a:solidFill>
                <a:latin typeface="Felix Titling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Felix Titl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elix Titling"/>
              </a:rPr>
              <a:t>As one of their desserts Chocolate Cak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800600" y="1828800"/>
            <a:ext cx="3705120" cy="4390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768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1" dur="768" fill="hold"/>
                                        <p:tgtEl>
                                          <p:spTgt spid="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3" dur="768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5" dur="768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Bernard MT Condensed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ernard MT Condensed"/>
              </a:rPr>
              <a:t>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ernard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ernard MT Condensed"/>
              </a:rPr>
              <a:t>Germany</a:t>
            </a: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 ,Jean F. Blashfield, all p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ernard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ernard MT Condensed"/>
              </a:rPr>
              <a:t>Germany</a:t>
            </a: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 ,Jim Hargrove, all p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ernard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ernard MT Condensed"/>
              </a:rPr>
              <a:t>Germany</a:t>
            </a: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 ,Richard Lord, all p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ernard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ernard MT Condensed"/>
              </a:rPr>
              <a:t>Germany ABCs</a:t>
            </a: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 ,Sarah Heiman, all p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ernard MT Condensed"/>
              </a:rPr>
              <a:t>Web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ernard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Wikip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ernard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http://www.germanculture.com.ua/library/links/holidays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340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98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898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898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898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898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898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898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898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4T14:34:11Z</dcterms:created>
  <dc:creator>meganroberts</dc:creator>
  <dc:description/>
  <dc:language>en-US</dc:language>
  <cp:lastModifiedBy>meganroberts</cp:lastModifiedBy>
  <dcterms:modified xsi:type="dcterms:W3CDTF">2009-02-12T13:47:01Z</dcterms:modified>
  <cp:revision>9</cp:revision>
  <dc:subject/>
  <dc:title>Slide 1</dc:title>
</cp:coreProperties>
</file>